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BB48-39AA-4E68-9D19-FFB6B01F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438800"/>
            <a:ext cx="8458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05BF-3824-4AEA-80E4-F73E4BE0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43880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443880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864-0905-4949-AD3A-1C0AA5E6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220968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220968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43880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443880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443880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570A-6CDF-4EA3-971A-3A9FFC2F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443880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E54-5213-4975-93FB-42E7C6C4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4560" y="443880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4438800"/>
            <a:ext cx="8458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4438800"/>
            <a:ext cx="8458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443880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4560" y="443880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0360" y="220968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0560" y="220968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443880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0360" y="443880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0560" y="443880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2161-51F6-4C70-A28B-5FE35811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0972-E7DF-4155-A78D-CD823DEE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B057-0F09-47B4-AAB2-C9B71809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E97B-533F-449C-9662-C0BA18BD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E584-A998-46CE-AA32-02EC94FD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EA0-8576-419C-95FD-61153F1D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F4F0-F034-4088-8D5D-EF54B70E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443880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833E-7180-4AD5-BBB7-FC3368C6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14560" y="443880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493F-8A91-4CF9-9B6B-42487C03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4438800"/>
            <a:ext cx="8458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4F22-E5E6-4513-BC21-39E2DC1F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4438800"/>
            <a:ext cx="8458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31AA-2E44-488B-9306-6F3F4F08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443880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14560" y="443880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544C-F7EA-4EAB-92EB-BFCEAF1B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40360" y="220968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00560" y="220968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443880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40360" y="443880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00560" y="443880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CDBC-2538-4B1F-BE83-115779B0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95D-FC11-4000-8132-D2075A31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354C-1D78-4A05-9E76-07272606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B47-00A2-4652-9175-75574910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43880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672-B42D-4B24-84FD-95F3450E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443880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52A-E05E-4779-B3E6-141530AA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438800"/>
            <a:ext cx="8458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E1F-8BB8-4D09-9596-5E51E1E7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 Apri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2987-2FA4-454A-8084-53DDDCB1D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Second Outline Level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4e009c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Third Outline Level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4e009c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Fourth Outline Level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4e009c"/>
              </a:buClr>
              <a:buSzPct val="90000"/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Fifth Outline Level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990033"/>
              </a:buClr>
              <a:buSzPct val="90000"/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Sixth Outline Level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990033"/>
              </a:buClr>
              <a:buSzPct val="90000"/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Seventh Outline Level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pic>
        <p:nvPicPr>
          <p:cNvPr id="43" name="Picture 4" descr="cddc bv"/>
          <p:cNvPicPr/>
          <p:nvPr/>
        </p:nvPicPr>
        <p:blipFill>
          <a:blip r:embed="rId3"/>
          <a:stretch/>
        </p:blipFill>
        <p:spPr>
          <a:xfrm>
            <a:off x="380880" y="228600"/>
            <a:ext cx="693432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 Apri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A91B-C4E9-4086-840D-2D5D7C8BC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009c"/>
                </a:solidFill>
                <a:latin typeface="Trebuchet MS"/>
              </a:rPr>
              <a:t>University Presses &amp; E-Books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Trebuchet MS"/>
              </a:rPr>
              <a:t>March 2005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Programs of Individual Presses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Oxford University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Columbia University EPIC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National Academy Pres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University of California Pres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009c"/>
                </a:solidFill>
                <a:latin typeface="Trebuchet MS"/>
              </a:rPr>
              <a:t>Oxford University Press</a:t>
            </a:r>
            <a:br>
              <a:rPr sz="3200"/>
            </a:br>
            <a:endParaRPr b="1" lang="en-US" sz="32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Oxford Scholarship Online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870 titles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Economics &amp; Finance, Philosophy, Political Science, Religion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Oxford Reference Online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Individual reference titles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Trebuchet MS"/>
              </a:rPr>
              <a:t>Oxford English Dictionary</a:t>
            </a: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 </a:t>
            </a:r>
            <a:r>
              <a:rPr b="1" i="1" lang="en-US" sz="2400" spc="-1" strike="noStrike">
                <a:solidFill>
                  <a:srgbClr val="336600"/>
                </a:solidFill>
                <a:latin typeface="Trebuchet MS"/>
              </a:rPr>
              <a:t>Online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Trebuchet MS"/>
              </a:rPr>
              <a:t>Dictionary of National Biography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Trebuchet MS"/>
              </a:rPr>
              <a:t>American National Biography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Trebuchet MS"/>
              </a:rPr>
              <a:t>Grove Art Online</a:t>
            </a: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	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Trebuchet MS"/>
              </a:rPr>
              <a:t>Oxford Digital Reference Shelf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009c"/>
                </a:solidFill>
                <a:latin typeface="Trebuchet MS"/>
              </a:rPr>
              <a:t>Columbia University EPIC</a:t>
            </a:r>
            <a:br>
              <a:rPr sz="3200"/>
            </a:br>
            <a:endParaRPr b="1" lang="en-US" sz="32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Gutenberg &lt;e&gt; with AHA: </a:t>
            </a:r>
            <a:r>
              <a:rPr b="1" i="1" lang="en-US" sz="2800" spc="-1" strike="noStrike">
                <a:solidFill>
                  <a:srgbClr val="336600"/>
                </a:solidFill>
                <a:latin typeface="Trebuchet MS"/>
              </a:rPr>
              <a:t>Prize from the AHA &amp; Columbia University Press for dissertations and monograph manuscripts in history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1999 – 2003 30 prizes awarded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Published first electronic, then print – 11 to date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51 library subscribers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Annual subscriptions for collection: $195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009c"/>
                </a:solidFill>
                <a:latin typeface="Trebuchet MS"/>
              </a:rPr>
              <a:t>National Academy Press</a:t>
            </a:r>
            <a:br>
              <a:rPr sz="3200"/>
            </a:br>
            <a:endParaRPr b="1" lang="en-US" sz="32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At the Press’s Web site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Free page viewing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Purchased PDF chapters or books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Package of hardback and PDF at 25% above hardback alone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Distributes to institutions through intermediarie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009c"/>
                </a:solidFill>
                <a:latin typeface="Trebuchet MS"/>
              </a:rPr>
              <a:t>University of California Press</a:t>
            </a:r>
            <a:br>
              <a:rPr sz="3200"/>
            </a:br>
            <a:endParaRPr b="1" lang="en-US" sz="32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Partnership of UCP &amp; California Digital Library’s eScholarship program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1,400 ebooks online in XML format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Available freely to UC community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Less than 400 available to others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E-book versions available through retailers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Participates in many online book programs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Programs of Scholarly Organizations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ACLS History E-Book Project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ACLS History E-Book Project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&gt;1,000 historian-selected titles in 7 areas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Most scanned backlist; few new XML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Adding 6 fields &amp; 250 titles/year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39% of 61 university presses responding to a survey in fall 2004 provide books 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9 presses provide new titles (14 available now)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313 libraries subscribing – 20 consortia, including CIC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Carnegie classification pricing model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University Press Group Initiatives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Subject-based projects managed by one pres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Consortial initiative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Subject-Based Projects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These projects include primary sources from various libraries and publishers and commissioned interpretive material 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University of Virginia Rotunda Collections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009c"/>
                </a:solidFill>
                <a:latin typeface="Trebuchet MS"/>
              </a:rPr>
              <a:t>University of Virginia Rotunda Collections</a:t>
            </a:r>
            <a:endParaRPr b="1" lang="en-US" sz="32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rebuchet MS"/>
              </a:rPr>
              <a:t>original digital scholarship along with newly digitized critical &amp; documentary editions in the humanities &amp; social sciences</a:t>
            </a: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 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Dolley Madison Digital Editions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Papers of George Washington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Emily Dickinson’s Correspondences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Melville 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Trebuchet MS"/>
              </a:rPr>
              <a:t>Graduated pricing with maintenance fees</a:t>
            </a:r>
            <a:endParaRPr b="1" lang="en-US" sz="30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University Presses &amp; E-Books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Goal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Concern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Potential value of online book program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Current involvement in online books program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Consortial Initiatives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Formats evolving: one press may lead and manage but others participate and have oversight 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Project TORCH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BiblioVault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Project TORCH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OUP initiative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Mellon Foundation provided 2 planning grants 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Goal to delineate backlist collections of university press titles in humanities to sell to libraries with pricing based on library size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Project is on hold (as of January 2005)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BiblioVault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University of Chicago Press home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Repository for digital book files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Scanned/OCRed for older books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Vector PDF for newer books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XML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To enable lifecycle management of books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Scholars’ Portal for book discovery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Studying how to serve presses &amp; scholarly community with online book delivery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009c"/>
                </a:solidFill>
                <a:latin typeface="Trebuchet MS"/>
              </a:rPr>
              <a:t>Commercial Online Book Ventures: Participation Level</a:t>
            </a:r>
            <a:endParaRPr b="1" lang="en-US" sz="3200" spc="-1" strike="noStrike">
              <a:solidFill>
                <a:srgbClr val="4e009c"/>
              </a:solidFill>
              <a:latin typeface="Trebuchet M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133720" y="2362320"/>
          <a:ext cx="4724280" cy="4241520"/>
        </p:xfrm>
        <a:graphic>
          <a:graphicData uri="http://schemas.openxmlformats.org/drawingml/2006/table">
            <a:tbl>
              <a:tblPr/>
              <a:tblGrid>
                <a:gridCol w="2819160"/>
                <a:gridCol w="19051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netLibr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7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1368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Quest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6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1368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ebr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3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1368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24x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1368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Content Dir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1368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Ebooks Cor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1368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009c"/>
                </a:solidFill>
                <a:latin typeface="Trebuchet MS"/>
              </a:rPr>
              <a:t>Commercial Online Book Ventures: </a:t>
            </a:r>
            <a:br>
              <a:rPr sz="3200"/>
            </a:br>
            <a:r>
              <a:rPr b="1" lang="en-US" sz="3200" spc="-1" strike="noStrike">
                <a:solidFill>
                  <a:srgbClr val="4e009c"/>
                </a:solidFill>
                <a:latin typeface="Trebuchet MS"/>
              </a:rPr>
              <a:t>Issues for University Presses</a:t>
            </a:r>
            <a:endParaRPr b="1" lang="en-US" sz="32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Lack of interest in backlist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Preservation of print copy sales to librarie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Modest income derived 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Lost sales to scholars?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Lost income from permissions for partial use of books?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Questions for Future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What relationships between print and online books do libraries seek?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What interest do libraries have in providing online access to backlist titles?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Would libraries use online access to substitute for some print access?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University Press Goals 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Publish as many worthy scholarly books as possible without going broke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Few (if any) university presses break even consistently on their monographic book publishing programs 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Other income comes from journals programs, other publishing activities, endowments, &amp; institutional subsidies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Avg subsidy=10% of net sales ($.36 mn)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University Press Goals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Maximize dissemination of books consistent with economic goal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Formats – hardcover, paperback, ebooks, partial 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Timing of release of each format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Pricing – overall level &amp; difference by format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Keep books available to community for as long as they are in demand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Formats 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Technology – offset &amp; digital printing, e-versions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University Press Concerns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Libraries are key consumers of scholarly monograph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Journals take increased share of library budgets 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ARL unit purchases of monographs down  1986-2001 (2002=1986)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Sales of new hardcover scholarly monographs off by 50% or more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009c"/>
                </a:solidFill>
                <a:latin typeface="Trebuchet MS"/>
              </a:rPr>
              <a:t>University Press Concerns </a:t>
            </a:r>
            <a:br>
              <a:rPr sz="3200"/>
            </a:br>
            <a:r>
              <a:rPr b="1" lang="en-US" sz="3200" spc="-1" strike="noStrike">
                <a:solidFill>
                  <a:srgbClr val="4e009c"/>
                </a:solidFill>
                <a:latin typeface="Trebuchet MS"/>
              </a:rPr>
              <a:t>re Online Books</a:t>
            </a:r>
            <a:endParaRPr b="1" lang="en-US" sz="32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Offering online books could: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Diminish sale of print copies to librarie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Cut students’ purchases of books 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Reduce income from permissions for classroom use &amp; coursepack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Economic Potential for Online Books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Expand library base purchasing access to books via pricing that reflects size of user base or actual usage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Facilitate ‘just in time’ acquisition of print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Replace some ILL activity 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Replace offsite storage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Facilitate e-coursepack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Scholarly Potential for Online Books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Readers around the world could learn about &amp; access university press titles 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Books could be fully integrated into online search &amp; retrieval processe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Dissertations could be integrated into scholarly collections &amp; need for dissertation-based first books could diminish 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University Press Online Book Programs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Programs of individual presse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Programs of other scholarly organization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Programs of groups of university presse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Commercial program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iana</dc:creator>
  <dc:description/>
  <dc:language>en-US</dc:language>
  <cp:lastModifiedBy>Kiana Gordon</cp:lastModifiedBy>
  <dcterms:modified xsi:type="dcterms:W3CDTF">2010-05-19T18:29:53Z</dcterms:modified>
  <cp:revision>38</cp:revision>
  <dc:subject/>
  <dc:title>PowerPoint Presentation</dc:title>
</cp:coreProperties>
</file>